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DE2E-35B6-4960-A4CA-54544B87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94B-D9AE-47A9-8C5E-4B70CDE7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D80-56DE-4523-B04E-2F6BA023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88E-F4AC-4491-A34F-174B21E2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2DD-58B8-46A0-96C5-0D80FEB9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306-F30A-4013-A3C3-7D6DA3F6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303-160C-4A35-9254-53FF5CCD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FB67-CAA9-46D9-9ECB-F371C099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94E-A990-4C13-92D5-602EBFB0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D98-DA92-49E5-AAEF-B5AC8D0B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20FD-C87C-4E0E-9DD2-62D82084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F5CA-DEBD-43DD-AB68-C9BE5BBC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FE09-F102-4B5D-BAD6-E5249B913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y in a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 Why doesn’t a cell have to store a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ATP it nee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TP has a formation/break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ing relationship with ADP -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s phosphate group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ailable, more ATP can be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Uses of Cel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rve Cells: use ATP to move ions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 nerve impul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flies: produce light (bioluminescence)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breakdown of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dneys:  move molecules &amp; ions to elimin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 while retaining nutr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A CELL -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biological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ells require energy.  A quick source of energy that cells use the the molecul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T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Th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is molecule is stored in its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hemical bon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 ATP is composed of an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aden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 bonded to a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rib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gar.  Three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harg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lecules called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phosph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ups are attached to the sug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A CELL -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energy stored &amp; released by AT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that is used to add a phosphate group to ADP becomes stored in the chemical bond in the resulting ATP molecule.  The stored energy is released when ATP is broken down into ADP and a phosphate group is released (cut of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IN A CELL - 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cells use the energy rele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T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ays - making new molecules, maintaining homeostasis, transmitting nerve impulses, movement, producing light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 Cell Ene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Energy is required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ctive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ovement of flagella or c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oduction, transport, &amp; storage of 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uscle con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heart p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rain controlling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 How do consumers obtain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eat plants or animals that eat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 AT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olecule present in all living things that stores energy in a useable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Structural difference between ATP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A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TP has 3 phosphate groups &amp; AD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only 2 phosphate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Molecules in both ATP &amp; AD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denine, ribose, and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Which structure has more sto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TP;  energy is stored in the bonds that link one phosphate group to another and ATP has 3 of these bonds whereas ADP has onl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Converting ADP to AT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phosphate group is added to A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is requires an input of energy, whi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tored in the new phosphate bond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is a by product of this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f66"/>
            </a:gs>
            <a:gs pos="100000">
              <a:srgbClr val="ffad8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 Forming &amp; Breaking Down A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Converting ATP to AD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ater is used to remove a phos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from 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s the phosphate group is removed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stored in the bond is relea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43:27Z</dcterms:created>
  <dc:creator>Clayton Johns</dc:creator>
  <dc:description/>
  <dc:language>en-US</dc:language>
  <cp:lastModifiedBy>NHS NPS</cp:lastModifiedBy>
  <dcterms:modified xsi:type="dcterms:W3CDTF">2011-10-28T17:46:17Z</dcterms:modified>
  <cp:revision>6</cp:revision>
  <dc:subject/>
  <dc:title>Energy in a Cell</dc:title>
</cp:coreProperties>
</file>